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E2F6-6A6F-4347-BF9B-5DBAAB6D9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ssontutor.com/jm_respir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s://myhealth.alberta.ca/health/pages/conditions.aspx?hwid=ug2841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mm.edu/imagepages/1959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respi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oygardnerteaches.blogspot.ca/p/singing-anatomy-breath-vocal-fol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ubc.ca/nootk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EA7-C94F-470B-BB92-71256708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286-2251-48BE-9EAC-BA604DE4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7EF-344F-48B6-8D42-50005915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3B2-7D4D-4A64-A10F-1D74CABE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259-0DEC-4336-8E5A-837A36FE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23C-D96A-4CE5-9058-A5866F48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59A-CECA-4890-9041-B8BA0274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E8B-F92E-4F0D-A4A3-EAEC3DA7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6DE-8F74-451D-A0E1-37E9251A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8B4-C574-4B08-B1A8-285CC64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780-2C88-4CB0-AA29-CAA3EF7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7C6-C675-4981-B0BE-B1651F8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BA68-C0C0-4BEE-B930-5573CCFA7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MYSGXhJ4E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YSIWceGMxY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O0qwl5k9R4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2240" y="609480"/>
            <a:ext cx="46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e or nasal pa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l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 bron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(left) bron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of gases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tween organism and its surrou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9920" y="609480"/>
            <a:ext cx="646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gas exchange in alveoli (some problems with sound, but good vide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XTMYSGXhJ4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0640" y="1981080"/>
            <a:ext cx="556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movement of diaphragm and ribcage in breathing;  simple graphics but effective expla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YSIWceGM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o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powerful anti-smoking ad from Thail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O0qwl5k9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1692360"/>
            <a:ext cx="43434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6:11:23Z</dcterms:created>
  <dc:creator>rubina khan</dc:creator>
  <dc:description/>
  <dc:language>en-US</dc:language>
  <cp:lastModifiedBy>rubina khan</cp:lastModifiedBy>
  <dcterms:modified xsi:type="dcterms:W3CDTF">2012-11-30T18:53:55Z</dcterms:modified>
  <cp:revision>27</cp:revision>
  <dc:subject/>
  <dc:title>Digestive &amp; Circulatory System Review</dc:title>
</cp:coreProperties>
</file>